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202-33EF-4ADB-9B66-3B789C1A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6B5-442F-49D4-87F7-DC0152CB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036-F113-49BE-BD4E-2374FB0F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56C-029C-43E2-9A2F-96B50D20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B5C-7209-4F8B-834B-D5741220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141-EEC0-44B1-B364-EAA5AD12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5C0-E549-4AA3-9A7B-7B9E89A3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127-C15F-45DD-85A2-1CAE4C01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48C-B6D8-48D7-B8CC-A003B2C0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475-360A-44A6-A7B3-8772F570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316-1472-4281-8510-0EAC7FE7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DD2-8382-4748-9B88-216588ED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1885-9C10-48E2-8561-142026CCB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Carolina Gov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3: Topics I,II,III,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3920" y="263520"/>
            <a:ext cx="8865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V: NC Communit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(State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Cour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wann v. Charlotte-Mecklan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 Leandro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Public v. Private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harter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Education Lo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trover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ibraries, Community Colle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ck of: Money,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blems: Drugs, Crime, Drop-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Feder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o Child Left 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ndardized Testing,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44680" y="525600"/>
            <a:ext cx="487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Soci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olice/Fire/9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ocial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ANF, Wel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Bureaucr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Environment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olid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cyc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ci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Hazard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on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ir +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5840" y="609480"/>
            <a:ext cx="69901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NC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te Sales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tate Incom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rporate Incom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operty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Utilit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icenses, 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 Public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frastructure, 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hort Term v. Long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iorities +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isaster Relief (Natural/Terror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aster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91440" y="301680"/>
            <a:ext cx="7619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: Roots of NC Gov’t (C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Colonial 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First In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ecklenburg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alifax Resolves (1st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NC 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ea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14 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O amendments, Just ch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1835, 1868, 19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NC Particula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egregation/Civil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reensboro S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Women’s Suf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258120" y="114480"/>
            <a:ext cx="10430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I: NC State Government (C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Legisla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eneral Assembly (Congress) Bicam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ocal/Specia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istri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drawn after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ouse- 21 yrs old, 1 yr District res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nate-25 yrs old, 2 yr Citizen, 1 yr District 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eaker,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48800" y="544680"/>
            <a:ext cx="8193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Execu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over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0yrs old, 5yr US citizen; 2 year NC 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four year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s of executive n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ieutenant Gover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ame 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st woman LG; Bev Pur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lected Separately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ecutive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 head administrators (cabi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uncil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98920" y="488880"/>
            <a:ext cx="6988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Judicial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istrict Courts (usu 1 per coun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o Jury (6th amend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Juvenil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ivorce/Family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raffic Vio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ivil Cases less than $10,000 (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uperior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ivil Cases more than $10,000 (F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urt of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ears case again if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tate Suprem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ssues w/ NC 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ther cases to be overtu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7 Judges elected for 8yr 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4520" y="431640"/>
            <a:ext cx="8481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mportant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lerk of Superior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gi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istrict Atto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ublic Def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NC Landmark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te v. Man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wann v. Charlotte-Mecklenburg (State Suprema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e Leandro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SUMMARY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06880" y="152280"/>
            <a:ext cx="7700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II: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tructure/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reated by state of 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unties (100); County S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unicipalities (Many;5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ities,Towns,Vil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ou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ecutive &amp; Legisla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rgest subdivision of State (100/N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unty S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ounty Commissi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ounty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unty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heriff D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pt of Register and D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AGE 4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Special District I.e. school 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228600"/>
            <a:ext cx="8801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Municipalities (units of gover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ecutive &amp; Legisla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ower through char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nne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lection of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ity Council/Town Council/Boar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ssioner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ayors, Council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ity Govt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-At-Large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ayor-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gis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rong Mayor v. Weak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uncil-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gis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mmiss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92280" y="2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1080" y="395280"/>
            <a:ext cx="7514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unicipal &amp;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penditures: Water,Sewer, Police,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venues: Utility fees, Property Ta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alanced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Governm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oci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mbulanc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arks and Re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Public Ut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5:25:22Z</dcterms:created>
  <dc:creator>Chatham Central</dc:creator>
  <dc:description/>
  <dc:language>en-US</dc:language>
  <cp:lastModifiedBy>Chatham Central</cp:lastModifiedBy>
  <dcterms:modified xsi:type="dcterms:W3CDTF">2009-03-13T19:24:00Z</dcterms:modified>
  <cp:revision>9</cp:revision>
  <dc:subject/>
  <dc:title>North Carolina Gov’t</dc:title>
</cp:coreProperties>
</file>